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7C8-B34E-4908-A3C3-16B6D0314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D7AC-2250-4D1F-960F-AE2C99B40E07}" type="slidenum">
              <a:rPr b="0" lang="en-US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Decrease technology and personnel needs exponentiall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Art is NOT writing, it is research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Network, partner with other agencies, develop relationships with gran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13FE-2513-40DB-B3B2-44CAF5EFAB9B}" type="slidenum">
              <a:rPr b="0" lang="en-US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$42.9 Billion giving in 2007 by U.S. Foundations </a:t>
            </a:r>
            <a:r>
              <a:rPr b="0" lang="en-US" sz="1500" spc="-1" strike="noStrike">
                <a:solidFill>
                  <a:srgbClr val="191919"/>
                </a:solidFill>
                <a:latin typeface="Calibri"/>
              </a:rPr>
              <a:t>(Source: Foundation Center)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From experie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Technology mos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Rare for salaries or PR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Closed”, i.e. application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Open”, i.e. general “Request for Suppor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AD56-4BDA-4333-91A9-9A16F5A826F9}" type="slidenum">
              <a:rPr b="0" lang="en-US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91919"/>
                </a:solidFill>
                <a:latin typeface="Calibri"/>
              </a:rPr>
              <a:t>Target audi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1919"/>
                </a:solidFill>
                <a:latin typeface="Calibri"/>
              </a:rPr>
              <a:t>Pull the heart str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91919"/>
                </a:solidFill>
                <a:latin typeface="Calibri"/>
              </a:rPr>
              <a:t>DIRECT statement of cost &amp; what is nee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91919"/>
                </a:solidFill>
                <a:latin typeface="Calibri"/>
              </a:rPr>
              <a:t>Brief explanation of why you ne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1919"/>
                </a:solidFill>
                <a:latin typeface="Calibri"/>
              </a:rPr>
              <a:t>Give examples of successes &amp; fail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91919"/>
                </a:solidFill>
                <a:latin typeface="Calibri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1919"/>
                </a:solidFill>
                <a:latin typeface="Calibri"/>
              </a:rPr>
              <a:t>Expected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191919"/>
                </a:solidFill>
                <a:latin typeface="Calibri"/>
              </a:rPr>
              <a:t>(“Without XXX special support, this life-saving equipment could not be purchased.”</a:t>
            </a:r>
            <a:r>
              <a:rPr b="0" lang="en-US" sz="1900" spc="-1" strike="noStrike">
                <a:solidFill>
                  <a:srgbClr val="191919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91919"/>
                </a:solidFill>
                <a:latin typeface="Calibri"/>
              </a:rPr>
              <a:t>Tight budgets, state aid cut for local municipalities, levy lim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3A1-E176-4D37-9950-37AB05A9B721}" type="slidenum">
              <a:rPr b="0" lang="en-US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Federal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Grants.gov (www.grants.go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FEMA, USDA, DOJ, DHS, Ed, HUD, OJA, NIH, NIJ, OVAW, NTHSA, NTSB, FAA, USFA, COPS, BJA, OJJDP, OPJ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Emsgrantshelp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Firegrantshelp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Most federal grants need to be completed through an online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State- 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Offices of Public Saf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Local- 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Hospital Founders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Public Access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Ba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Wal-m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3C9F-5941-4177-9452-37BC5CAFB0EF}" type="slidenum">
              <a:rPr b="0" lang="en-US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588-0D7A-4EE5-8D29-B5FE6B39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210-0EC9-40DD-A78A-0B7B0B3A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763-9D32-41B4-819F-1416A0B8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74E-E4C6-43C3-B5A0-D741D504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B487-E013-4BB2-BAD6-573B1DAA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7437-C182-4F95-9248-6889A362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C8D4-C097-4D31-A2CC-822B4310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2400-AD5C-4308-AB1B-8A35EFD7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B891-5D94-42F8-819F-DC3D0D35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3D1D-B3BA-4A8E-B980-584925D8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FAC6-2461-456F-B26C-CCD9235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4DF-7E1B-4A4F-AFFD-410F2BD4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121C-1ADA-4FBD-8408-5ACE6C70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8640-356E-40B7-85E2-46C1D13F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FDDC-F7F1-4424-B24C-ACE1114A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926B-28D2-4D30-AC2F-D6740D4E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8968-4072-4FB5-AAEA-49E43F44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933-A686-45B3-A4B0-3B6033DD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A93-EB13-4FBC-8E21-D4425B99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33B-49BD-4DCE-BE8C-8E8CA0CC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051-9BEA-4A1A-AFA5-C2DFF708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14E-C46C-40B1-A56C-A585AF30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CD8-342E-474E-8DD8-1403C053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6B8-A9E3-42C6-8C79-BAD3EC8D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7446-D979-4282-958B-05F1CC73B2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0379-912D-478F-9860-BB9AFCFC1438}" type="slidenum"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5"/>
          <p:cNvSpPr/>
          <p:nvPr/>
        </p:nvSpPr>
        <p:spPr>
          <a:xfrm>
            <a:off x="4114800" y="5638680"/>
            <a:ext cx="4495680" cy="457200"/>
          </a:xfrm>
          <a:prstGeom prst="roundRect">
            <a:avLst>
              <a:gd name="adj" fmla="val 16667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Rounded Rectangle 3"/>
          <p:cNvSpPr/>
          <p:nvPr/>
        </p:nvSpPr>
        <p:spPr>
          <a:xfrm>
            <a:off x="3276720" y="304920"/>
            <a:ext cx="5181480" cy="761760"/>
          </a:xfrm>
          <a:prstGeom prst="roundRect">
            <a:avLst>
              <a:gd name="adj" fmla="val 16667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Arial Black"/>
              </a:rPr>
              <a:t>Getting Grants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91120" y="55623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Proposals &amp; Resourc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ounded Rectangle 3"/>
          <p:cNvSpPr/>
          <p:nvPr/>
        </p:nvSpPr>
        <p:spPr>
          <a:xfrm>
            <a:off x="3124080" y="380880"/>
            <a:ext cx="5639040" cy="685800"/>
          </a:xfrm>
          <a:prstGeom prst="roundRect">
            <a:avLst>
              <a:gd name="adj" fmla="val 16667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00400" y="3805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0a301"/>
                </a:solidFill>
                <a:latin typeface="Arial Black"/>
              </a:rPr>
              <a:t>Downloads</a:t>
            </a:r>
            <a:endParaRPr b="0" lang="en-US" sz="33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3581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 Grants, Grants Lists, etc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ww.stcroixems.com/gra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/>
          <p:cNvSpPr/>
          <p:nvPr/>
        </p:nvSpPr>
        <p:spPr>
          <a:xfrm>
            <a:off x="3124080" y="609480"/>
            <a:ext cx="5639040" cy="609840"/>
          </a:xfrm>
          <a:prstGeom prst="roundRect">
            <a:avLst>
              <a:gd name="adj" fmla="val 16667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 Black"/>
              </a:rPr>
              <a:t>Adam Wojciehowski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.A., NREMT-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= Bag toter</a:t>
            </a:r>
            <a:br>
              <a:rPr sz="3200"/>
            </a:b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. Croix EMS &amp; Rescu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rset Police Departm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90360" y="434340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a642"/>
                </a:solidFill>
                <a:latin typeface="Arial"/>
              </a:rPr>
              <a:t>decrease needs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7" name="Picture 4" descr="pressurepiggybank.jpg"/>
          <p:cNvPicPr/>
          <p:nvPr/>
        </p:nvPicPr>
        <p:blipFill>
          <a:blip r:embed="rId1"/>
          <a:stretch/>
        </p:blipFill>
        <p:spPr>
          <a:xfrm>
            <a:off x="4724280" y="990720"/>
            <a:ext cx="342756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5000" y="5486040"/>
            <a:ext cx="3124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 Black"/>
              </a:rPr>
              <a:t>Example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99" name="Picture 4" descr="teamwork.jpg"/>
          <p:cNvPicPr/>
          <p:nvPr/>
        </p:nvPicPr>
        <p:blipFill>
          <a:blip r:embed="rId1"/>
          <a:stretch/>
        </p:blipFill>
        <p:spPr>
          <a:xfrm>
            <a:off x="685800" y="685800"/>
            <a:ext cx="3433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ounded Rectangle 3"/>
          <p:cNvSpPr/>
          <p:nvPr/>
        </p:nvSpPr>
        <p:spPr>
          <a:xfrm>
            <a:off x="609480" y="380880"/>
            <a:ext cx="3581640" cy="914400"/>
          </a:xfrm>
          <a:prstGeom prst="roundRect">
            <a:avLst>
              <a:gd name="adj" fmla="val 16667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3276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 Black"/>
              </a:rPr>
              <a:t>Where?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question.jpg"/>
          <p:cNvPicPr/>
          <p:nvPr/>
        </p:nvPicPr>
        <p:blipFill>
          <a:blip r:embed="rId1"/>
          <a:stretch/>
        </p:blipFill>
        <p:spPr>
          <a:xfrm>
            <a:off x="5541840" y="1365120"/>
            <a:ext cx="20289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720" y="380880"/>
            <a:ext cx="4952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Key Point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is the key to grant succes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has one walk left in the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locally for smaller/quicker gra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bleeding stops sooner or lat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progressive and aggressive in your gra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rger the patient, the higher floor they will be found o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8:32:54Z</dcterms:created>
  <dc:creator>profile</dc:creator>
  <dc:description/>
  <cp:keywords/>
  <dc:language>en-US</dc:language>
  <cp:lastModifiedBy>A.Wojciehowski</cp:lastModifiedBy>
  <dcterms:modified xsi:type="dcterms:W3CDTF">2009-01-23T04:57:30Z</dcterms:modified>
  <cp:revision>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81033</vt:lpwstr>
  </property>
</Properties>
</file>